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2933"/>
        <c:axId val="21773333"/>
      </c:barChart>
      <c:catAx>
        <c:axId val="1312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73333"/>
        <c:crosses val="autoZero"/>
        <c:auto val="1"/>
        <c:lblAlgn val="ctr"/>
        <c:lblOffset val="100"/>
        <c:noMultiLvlLbl val="0"/>
      </c:catAx>
      <c:valAx>
        <c:axId val="21773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2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F92-F0CB-42F0-A7EF-C9F66B3B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170-1174-4790-B1AF-C72B3FF2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32C-41E5-4201-9584-C72C14A8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608-B46F-40EF-8FFF-1581DE76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DF9-CFAA-4A33-A408-DB63F91A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649-9211-46A5-9B24-5ADB2168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D61-5D19-45BE-89C8-4BEE7CC2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86D-49F0-44CA-9F8D-2B00A3D9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AC3-82D2-4490-92CA-30B8A445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35B-A776-4E06-AB29-64B150D2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CA8-1AB7-4441-B5B9-A1CE6760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9FD-D7E8-492E-918C-3B1CB138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B47A9-7E34-4F14-9BBB-8AD89FC6CD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