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3416"/>
        <c:axId val="20391090"/>
      </c:barChart>
      <c:catAx>
        <c:axId val="9963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1090"/>
        <c:crosses val="autoZero"/>
        <c:auto val="1"/>
        <c:lblAlgn val="ctr"/>
        <c:lblOffset val="100"/>
        <c:noMultiLvlLbl val="0"/>
      </c:catAx>
      <c:valAx>
        <c:axId val="20391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D3A-00D1-4284-82D6-53133179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9F3-FFC8-41C0-AED0-18E8D93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8A8-15EE-4D9E-B9AB-B8EFBD32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0ED-5B83-4462-B2CE-AF6D35DB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60A-ECFD-4D56-9F0C-9DC458F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D56-5FCB-441A-B2BA-C60D6525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1F6-B004-4C09-AA2D-72F4D9F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84A-ABA6-4B0B-9B08-AF28D87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505-A87C-4A8A-9E7A-FB76627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8A1-F179-4431-9784-5A658B79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488-715B-47A9-B717-4553353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6F1-AA48-412D-B0E4-AC3DEA4A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AD334-D304-4760-B694-44E80A9FF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