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83945"/>
        <c:axId val="98159048"/>
      </c:barChart>
      <c:catAx>
        <c:axId val="70083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9048"/>
        <c:crosses val="autoZero"/>
        <c:auto val="1"/>
        <c:lblAlgn val="ctr"/>
        <c:lblOffset val="100"/>
        <c:noMultiLvlLbl val="0"/>
      </c:catAx>
      <c:valAx>
        <c:axId val="98159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83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8FA-0836-41C7-BB00-4E74E82F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97E-566B-4316-856B-A6B90757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C00-E9AA-482D-A793-003B8071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5D7-569C-4455-BB08-80F34543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CB6-3FF2-4E9C-B1A9-D140BB3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FA3-B38A-40F5-92E0-EFC5FCC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291-EA35-4A43-A4EB-D5779E4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AF4-26F8-432B-95BF-025F21BB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9B2-0A94-4F4F-BDD9-769B184C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6CD-4F97-4AD1-89EE-3BBFA8EE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938-6E36-4642-8C35-6C53F43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527-D740-4346-B935-71BFD82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93995-6BF2-49DA-AA45-F6193BBB0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