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973291"/>
        <c:axId val="98899298"/>
      </c:barChart>
      <c:catAx>
        <c:axId val="759732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99298"/>
        <c:crosses val="autoZero"/>
        <c:auto val="1"/>
        <c:lblAlgn val="ctr"/>
        <c:lblOffset val="100"/>
        <c:noMultiLvlLbl val="0"/>
      </c:catAx>
      <c:valAx>
        <c:axId val="988992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732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8104-B3CC-432C-BC42-465F080A8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1FAD-D6EA-4B2C-A621-6D8D7BF8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B9AA-14E1-4380-839D-BE7C1947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464E-E6B2-4272-B7C7-0C818E9B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0D3F-5A80-4A47-A99A-EA3B3DC9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337B-4CF8-4265-968F-FCF39476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FD8F-D247-473E-B2F3-2DE5A7CA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54B3-621F-4563-B21F-712F3E55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8A57-45C1-4302-A8AD-EA554FCD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37B9-2292-4AED-A022-A3D54BAA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6E13-C21A-4CB5-A7C2-A6DE0A63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5697-8393-47B3-8B9F-96B90326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4F78D-489E-4651-A5FC-12854C776E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