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4604128"/>
        <c:axId val="40338109"/>
      </c:barChart>
      <c:catAx>
        <c:axId val="6460412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0338109"/>
        <c:crosses val="autoZero"/>
        <c:auto val="1"/>
        <c:lblAlgn val="ctr"/>
        <c:lblOffset val="100"/>
        <c:noMultiLvlLbl val="0"/>
      </c:catAx>
      <c:valAx>
        <c:axId val="4033810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460412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B2DC6-24A7-4B8C-8698-E4B6BFA545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81BFA-22B8-4FA9-BB47-10E83FE3F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7E10-29A3-432C-995F-C1DD61472B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CE3A-61A2-4E5C-923C-CB38DA2D8B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7186C-51BF-4443-8066-97873B5AC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91A90-C640-40B6-B939-2A56B830D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0C1D-94F7-4D4F-8D90-FE91946063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12E23-9691-4C27-8829-7C5CF7187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A98B-46D7-45BC-80AD-B338D0C00E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842A-5F17-4CBA-8DE7-3E85991F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7C98D-5290-4CF6-AB53-6E0C26ED6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FAE6-327E-4863-8E66-745CA0772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E2587F-6A61-46D5-9EFB-2A60B30132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