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13711"/>
        <c:axId val="87729440"/>
      </c:barChart>
      <c:catAx>
        <c:axId val="65113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29440"/>
        <c:crosses val="autoZero"/>
        <c:auto val="1"/>
        <c:lblAlgn val="ctr"/>
        <c:lblOffset val="100"/>
        <c:noMultiLvlLbl val="0"/>
      </c:catAx>
      <c:valAx>
        <c:axId val="87729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13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73C-37EF-406E-ABBD-BA6CEAAA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4713-82F2-472F-BDC9-8AB19D6B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187-655E-4959-A7A1-E98ABBB2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16C-E984-4167-98B7-31354256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B06-9E43-4014-9100-E7D8F846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DDD-36FD-4C55-8181-3C4D4653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966-39E8-4C23-845E-053A1EBD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730-6314-42EE-9221-C17E0F3E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7CDE-CC0C-4F33-8546-4D8952AD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2BD-2FCA-47F0-872B-45F7F23E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4A4-FD57-4D26-8F8E-1AD71170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B79-2B26-4655-9D79-85781313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FDA16-8BB3-4AC9-B930-BEC66A8574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