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771376"/>
        <c:axId val="40193898"/>
      </c:barChart>
      <c:catAx>
        <c:axId val="807713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93898"/>
        <c:crosses val="autoZero"/>
        <c:auto val="1"/>
        <c:lblAlgn val="ctr"/>
        <c:lblOffset val="100"/>
        <c:noMultiLvlLbl val="0"/>
      </c:catAx>
      <c:valAx>
        <c:axId val="401938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713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A0A3-CA7C-4D53-A83F-50DBC3C1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2FBE-E01F-4AAF-B55A-A0C63067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09F4-33C0-4E72-A738-9CFA3B5E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E034-DF1A-4D05-8078-FF32BB050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81E-7CD4-4ED8-A512-3C673588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9D93-3EE5-43E8-B6E8-159C908F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E9BA-4EA4-4F97-AC71-433045B3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41C1-C581-4309-8B97-21A498DE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580E-7456-45AC-996D-B2F32D8D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EB09-8B54-4D6B-B83B-99692345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F7BD-FE41-41C9-B71A-7FDBD844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DC87-1170-45F9-B133-0CF9EA35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34F8E-140E-4338-B970-31F8F164F8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