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00308"/>
        <c:axId val="48587756"/>
      </c:barChart>
      <c:catAx>
        <c:axId val="19003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87756"/>
        <c:crosses val="autoZero"/>
        <c:auto val="1"/>
        <c:lblAlgn val="ctr"/>
        <c:lblOffset val="100"/>
        <c:noMultiLvlLbl val="0"/>
      </c:catAx>
      <c:valAx>
        <c:axId val="48587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03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817-3203-438B-B842-0773D0B8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888-611A-42FF-818F-2FF85845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6A9-1591-4CC6-AB3F-14C12A11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409-0EC0-44F7-98EA-6ADF4F4C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026-DF24-4720-97C5-570B12E4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EAE-A0F3-48F1-A373-FFB8548A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604-72BF-4C8E-B77B-5EB4AFCC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EB3-862B-42DA-BF8B-8D3D4400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46F-D0AC-4F7D-9D17-866EB942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F1A-CC01-4F3B-99B2-AB6751DC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FE84-8E3E-4F1E-B6A6-9BCD7D04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7E6-9FD7-4FD0-A2B5-A69C5C9D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2F88F-F4B6-4BF5-993D-7ADCCE65DC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