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146604"/>
        <c:axId val="20612029"/>
      </c:barChart>
      <c:catAx>
        <c:axId val="991466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12029"/>
        <c:crosses val="autoZero"/>
        <c:auto val="1"/>
        <c:lblAlgn val="ctr"/>
        <c:lblOffset val="100"/>
        <c:noMultiLvlLbl val="0"/>
      </c:catAx>
      <c:valAx>
        <c:axId val="206120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466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E92C-76AA-4604-848D-FC5AB136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5CF7-0EAC-4CDE-9D00-F80B20DF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DB3-0950-43C3-AFA6-15797AFF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B595-B80E-4005-A62C-19C3F2F0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94B-6B62-4EF2-8730-C99EE4DB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08EA-50AC-4647-863F-D3B5B26F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BEF-31F1-4D96-A4ED-1C5E2E7C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C9FE-03A3-40C4-891C-3C995F70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71F-0123-48E6-9869-81F856E6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D26-BC77-43A0-ABC5-C46862E3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526D-F283-4A22-94E5-E9EFED46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4F2-F963-415E-A2C2-3894BEBA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9E03C-24B2-4C0B-BC51-A470620CC0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