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45360"/>
        <c:axId val="5254645"/>
      </c:barChart>
      <c:catAx>
        <c:axId val="54645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4645"/>
        <c:crosses val="autoZero"/>
        <c:auto val="1"/>
        <c:lblAlgn val="ctr"/>
        <c:lblOffset val="100"/>
        <c:noMultiLvlLbl val="0"/>
      </c:catAx>
      <c:valAx>
        <c:axId val="5254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45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0BF-58B8-48F3-9A62-2B1DE3EE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BE8-7408-47E8-A5B7-0B0A3E86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736-B7E8-440C-A40E-BED27CE2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F2D-0A98-4E41-BD75-4251414F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090-2A00-4BEE-9A8B-B9BE2C73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523-E1D3-4248-8177-D6C16607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05D-47A8-44FD-9FDC-258456DD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3A2-5A05-4F5A-B20B-B307A753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8FB-CA78-4077-90C3-473AE2F1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B95-C717-42D2-8D79-FEE9B39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950-3390-4C3D-BF65-A71334F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C1F-4A1E-49C6-BB3A-16D2E057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D0416-2CF4-470A-8471-6FD8E14CC4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