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338118"/>
        <c:axId val="11711199"/>
      </c:barChart>
      <c:catAx>
        <c:axId val="60338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11199"/>
        <c:crosses val="autoZero"/>
        <c:auto val="1"/>
        <c:lblAlgn val="ctr"/>
        <c:lblOffset val="100"/>
        <c:noMultiLvlLbl val="0"/>
      </c:catAx>
      <c:valAx>
        <c:axId val="11711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338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1475-D1F8-44DD-AFF1-FE83E4AF4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F4B5-0E92-4F2A-973D-F740BB74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CD4E-7A4A-4236-B456-61D5147F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E2CB-B8D1-4EF4-BD72-FF3A1CBAF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9A8E-3B97-4F01-99BE-F0AE23E9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D7C-AC4F-4779-8D64-F705E7D3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5263-0B55-434A-ABC7-311A7D89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8EE-2629-4CFC-8008-FEC452AB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B77-8768-4A29-AE76-C002991B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C226-5589-4565-9846-B886B087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5A6-AA83-41A0-9FB2-E06280FC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C52-2493-4A81-B3BE-D9DEAD62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ECBE34-640B-4574-8EB1-48DBC0C0F37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