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83246"/>
        <c:axId val="72769914"/>
      </c:barChart>
      <c:catAx>
        <c:axId val="691832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69914"/>
        <c:crosses val="autoZero"/>
        <c:auto val="1"/>
        <c:lblAlgn val="ctr"/>
        <c:lblOffset val="100"/>
        <c:noMultiLvlLbl val="0"/>
      </c:catAx>
      <c:valAx>
        <c:axId val="727699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832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33A2-BE29-4434-99E8-9D20D670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CDF5-63CC-48AA-B4F5-FCC4696E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838E-1CFD-4307-BC77-87C435E4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5CA2-68D3-4FE9-B8E8-D2A1F98F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E4A4-2171-48D1-974D-818ABC8D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D266-2C18-4AFB-93CF-A2569102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194C-9235-4F83-B581-D17BDB46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B91-1219-4982-9968-E2480E76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EB0B-8DAD-4732-87EF-29AF184B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D9B3-B9C6-46F1-A6D8-19487317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3984-78B7-44E3-8701-E4A37052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07A-5615-4761-95F1-2E670813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EEC62-2762-4D30-80CE-FD2D5804CD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