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15663"/>
        <c:axId val="12699836"/>
      </c:barChart>
      <c:catAx>
        <c:axId val="426156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99836"/>
        <c:crosses val="autoZero"/>
        <c:auto val="1"/>
        <c:lblAlgn val="ctr"/>
        <c:lblOffset val="100"/>
        <c:noMultiLvlLbl val="0"/>
      </c:catAx>
      <c:valAx>
        <c:axId val="126998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156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CE2A-7C56-48DF-B52B-442B9BCB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6BF7-2730-4753-8888-9397E4AE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ADDA-4B7A-4446-A778-DD94326E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8E91-DD4B-471E-BCF5-B483D2E6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7BB7-B9B7-49D8-8B9D-4588BD88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C7D3-0B1D-4D8E-9AA8-CDF39BE0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BF4-D1FD-4DD7-B21C-C2C24E02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714A-C469-463B-8DD8-933B9787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94D1-724A-4403-A5B8-F65ACA56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5C20-74C9-4817-AEFA-2D28A672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52A4-A0C0-49C8-B2F0-37654786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D58A-7D13-4D78-9B06-082CE0BD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25583-8648-4BA7-B92D-2FA26DA92D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