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40061"/>
        <c:axId val="61448528"/>
      </c:barChart>
      <c:catAx>
        <c:axId val="94040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48528"/>
        <c:crosses val="autoZero"/>
        <c:auto val="1"/>
        <c:lblAlgn val="ctr"/>
        <c:lblOffset val="100"/>
        <c:noMultiLvlLbl val="0"/>
      </c:catAx>
      <c:valAx>
        <c:axId val="61448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40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524-F500-436C-A7E9-8D6E6DA6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961-40E9-4D5E-8C3B-910ABE83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10A-722D-4457-B8D1-DCAC4747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ACF-E7BB-4E8E-AC21-4C6C175F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A85-FE87-442C-B629-FBD1A668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395-54D9-4041-B87C-CA35F953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8AC-411E-4D2D-9935-70428B52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BDC-439D-471A-91B5-B55B0A80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36A-D255-42AA-BB8D-C60C1B10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226-422E-4FD1-97AF-0E7210D6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F35-54CB-46BA-BB17-1E87C87C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9F4-72AA-4EE6-ABAB-6A54C4F6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952A9-8141-46C4-9570-5D9DA4F9A9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