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61682"/>
        <c:axId val="17862154"/>
      </c:barChart>
      <c:catAx>
        <c:axId val="69661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62154"/>
        <c:crosses val="autoZero"/>
        <c:auto val="1"/>
        <c:lblAlgn val="ctr"/>
        <c:lblOffset val="100"/>
        <c:noMultiLvlLbl val="0"/>
      </c:catAx>
      <c:valAx>
        <c:axId val="17862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1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3AD-EF3E-46ED-8104-738CD645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D28-5E4D-438A-81A0-8C9FD4D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0CA-AC75-43A6-8BEB-A75C0C94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11D-4F95-47CF-A4D4-456EE78D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5B81-F67C-4927-8E68-E3CAB664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7B7-7DC4-43B6-863C-867156EE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C5B-1C34-486D-9A62-66B7FE54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2F25-A9A2-4AEC-B815-3FA51F4A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B39-BBE1-4E7E-B3CE-4CF52EFF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2D0-2F99-4394-AED0-3F7A578A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F2FD-356B-4301-92F5-530ACC33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68E-1CE8-49CC-8C1D-5550BADB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73411-8F5C-4095-9D79-CA79B82C15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