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69008"/>
        <c:axId val="9957052"/>
      </c:barChart>
      <c:catAx>
        <c:axId val="50969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7052"/>
        <c:crosses val="autoZero"/>
        <c:auto val="1"/>
        <c:lblAlgn val="ctr"/>
        <c:lblOffset val="100"/>
        <c:noMultiLvlLbl val="0"/>
      </c:catAx>
      <c:valAx>
        <c:axId val="9957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69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09B-284F-44EE-860D-6C1F5F94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D74-99BA-4196-9EB6-EE05F409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3AA-5076-4802-9672-674A9752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435-7921-44BE-87BE-D3282574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908-8FF1-4EC6-A811-CFEF529C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C5F-C1CC-4400-9259-5DB29EBF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F74-8C54-4867-B4A2-0F89F7FA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CB8-FC48-41DA-8891-638A5FEE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7EB-18B0-4091-A72F-7E659142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8D2-2588-4957-824E-E4B3A296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C92-87B5-47E3-AFBC-F0C91C96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813-509E-4C46-8482-E48A10DD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03154-EB16-4416-BF09-B43DC95B47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