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40548"/>
        <c:axId val="16621290"/>
      </c:barChart>
      <c:catAx>
        <c:axId val="21340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21290"/>
        <c:crosses val="autoZero"/>
        <c:auto val="1"/>
        <c:lblAlgn val="ctr"/>
        <c:lblOffset val="100"/>
        <c:noMultiLvlLbl val="0"/>
      </c:catAx>
      <c:valAx>
        <c:axId val="16621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40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0748-C9F2-4265-BDF8-497D660A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D59-4453-43BD-A266-086BFB34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9BDE-C067-4766-8CC4-C98E25B7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52F-E0A0-43E0-94BC-24FC4F87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184-0452-462C-8C86-D904D811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E40-3755-4BC0-A5DE-E2479280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C0E-54E4-4FE2-BE4A-3CFAEC98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40A-982A-46B3-BC32-075D481D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23A-DE4F-4D40-BFBA-EC489281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021-2D33-4255-BE71-1A9797CD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B50-2DCB-44C8-9A63-5B9174E9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D2F-1F19-407C-B76B-D647D3B7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E7D3C-8DBA-4A03-BDD7-B3EFEB163C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