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03200"/>
        <c:axId val="50411893"/>
      </c:barChart>
      <c:catAx>
        <c:axId val="46303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11893"/>
        <c:crosses val="autoZero"/>
        <c:auto val="1"/>
        <c:lblAlgn val="ctr"/>
        <c:lblOffset val="100"/>
        <c:noMultiLvlLbl val="0"/>
      </c:catAx>
      <c:valAx>
        <c:axId val="50411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03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B62-70E4-4FA7-818F-E95A5D5F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F13-13D7-4FC8-B6FB-9E354E8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A4A-EA8D-40D7-8CA3-6433A389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C31-0702-4EAC-8F2C-B3E359E8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B6A-C8FA-490D-8855-9A5EFEB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C9-FA06-495B-93E5-D485DC1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704-E193-474F-AAE1-001B4844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8C2-656D-44EC-BC1F-14C4855F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E70-407A-4138-9351-DC704093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F81-97A3-4387-ACD8-6FE5A7D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4DB-D27E-46FC-95C4-9DF2F87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FC8-85AD-446C-8FCA-605F929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F548B-7B3E-40E6-AB39-E97696AE1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