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68857"/>
        <c:axId val="7607732"/>
      </c:barChart>
      <c:catAx>
        <c:axId val="74968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7732"/>
        <c:crosses val="autoZero"/>
        <c:auto val="1"/>
        <c:lblAlgn val="ctr"/>
        <c:lblOffset val="100"/>
        <c:noMultiLvlLbl val="0"/>
      </c:catAx>
      <c:valAx>
        <c:axId val="7607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68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DA5-D05B-48E5-9D77-01FAAB30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F47-38F8-45CF-AE7D-E99E5E9C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A7F-F9BD-4292-95ED-FCA38416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6FB-F9AA-41AA-AB9C-E9E5673D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F37-F3B6-4C28-B03F-55E26511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86E-7A88-4BC0-B917-9041484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9F6-D1A4-4A95-B15E-DB671EFD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06C-5DB3-4606-9216-D4E3E3D1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CAF-1B9F-45BC-90B1-0B9054E9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FCF-F22B-4996-B393-AD446679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770-3F70-4724-8960-6B3891E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459-135E-46AE-859B-AEC592FF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240E0-DC94-45BA-B15E-8EC9EB0487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