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18272"/>
        <c:axId val="54196839"/>
      </c:barChart>
      <c:catAx>
        <c:axId val="32318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6839"/>
        <c:crosses val="autoZero"/>
        <c:auto val="1"/>
        <c:lblAlgn val="ctr"/>
        <c:lblOffset val="100"/>
        <c:noMultiLvlLbl val="0"/>
      </c:catAx>
      <c:valAx>
        <c:axId val="54196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18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513-7261-4A44-979E-70189A31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5D4-400F-46F6-A57D-BABF7234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C1C-726D-4105-8979-6E73C2F4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D7C-713A-43DE-9B6C-9488754D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25E-A8A1-4CB3-B439-28AACD4D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400-0F9C-4C03-8DDE-24C04C53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A98-E63B-48A8-958F-051E2AD3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7A1-6C97-4D41-9D13-75D632E7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6F0-5A3D-4BBA-9D7A-D9938DBD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042-46D9-4FBC-81FD-AC97C28E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0FC-B6AE-417E-9584-F1181A8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C0E-239A-469E-BFF1-3F009A2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FBD82-6290-4D8B-9993-D8F1603F76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