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83504"/>
        <c:axId val="85140775"/>
      </c:barChart>
      <c:catAx>
        <c:axId val="11083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0775"/>
        <c:crosses val="autoZero"/>
        <c:auto val="1"/>
        <c:lblAlgn val="ctr"/>
        <c:lblOffset val="100"/>
        <c:noMultiLvlLbl val="0"/>
      </c:catAx>
      <c:valAx>
        <c:axId val="85140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83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B87-F748-4B97-AA7E-3532BA9F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583-8F5C-4A24-A996-E5B8C19A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3D3-0918-48BA-8FAC-D33F7176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C22-7219-4B07-AE3F-491DEDA8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500-E08E-4960-BEAC-56CBD716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E92-A5FC-427E-8733-6C1EB6F8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2C7-6B65-4EF6-8A95-015AD030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C68-B140-4653-BEDE-6BE39964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27D-C1A5-4937-A5B9-1CF52A41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868-4FA0-492D-A00D-F48818BC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44F-DB78-4AD0-9941-5C266F7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AB8-DCB0-4E19-AEA3-E238268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D84F6-7FE3-4EDC-9440-6113708207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