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47984"/>
        <c:axId val="31076512"/>
      </c:barChart>
      <c:catAx>
        <c:axId val="17947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76512"/>
        <c:crosses val="autoZero"/>
        <c:auto val="1"/>
        <c:lblAlgn val="ctr"/>
        <c:lblOffset val="100"/>
        <c:noMultiLvlLbl val="0"/>
      </c:catAx>
      <c:valAx>
        <c:axId val="31076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47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14F-EC81-48CA-BBEF-18F054DD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AC0-9E2C-4520-BCAA-A2F36554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147-E323-46A3-86E7-FB9EE6AA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07F-7471-4FC9-B680-1CBF6FA3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E59-DEF6-4248-B39E-EA9E8245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29D-3720-4259-8AFC-26C18652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F03-301C-414F-8F76-50F54B9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3A5-A1CF-44C0-AA59-402C573A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6C2-613C-4291-8284-46C88175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BC1-4B55-46E2-9825-EC6067AB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77E-0D58-4A52-A293-1108EFFA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EB4-307B-414F-9E7A-4D3522A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A4B47-00AE-4691-AD6A-828EFD8870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