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756372"/>
        <c:axId val="60355302"/>
      </c:barChart>
      <c:catAx>
        <c:axId val="767563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355302"/>
        <c:crosses val="autoZero"/>
        <c:auto val="1"/>
        <c:lblAlgn val="ctr"/>
        <c:lblOffset val="100"/>
        <c:noMultiLvlLbl val="0"/>
      </c:catAx>
      <c:valAx>
        <c:axId val="603553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7563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D794-AE5A-4DF5-8B71-D4DA0CA0F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1FFF-AD58-4C1C-B675-7234CD20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5DBD-E53F-42C6-8778-F7F4123DF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9054-673E-4124-A9F5-C8F3E4B4B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0753-4D29-4662-9D71-5C19C000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3F9C-3FFA-4150-A8BC-02603BA3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26E8-71D8-4126-A154-15ABA431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5F15-3F2A-469A-B1C0-62B64097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8443-1781-4C5B-A66F-019BCAA9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CA53-0B22-4EF6-A620-36589E28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876E-5E33-48DE-B3FE-1F90B2A1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5A1B-ACD6-40A7-B5D1-DFCB19B0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45FE1-D88A-4E37-AFCC-DDF32ACC25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