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95857"/>
        <c:axId val="20296185"/>
      </c:barChart>
      <c:catAx>
        <c:axId val="955958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96185"/>
        <c:crosses val="autoZero"/>
        <c:auto val="1"/>
        <c:lblAlgn val="ctr"/>
        <c:lblOffset val="100"/>
        <c:noMultiLvlLbl val="0"/>
      </c:catAx>
      <c:valAx>
        <c:axId val="20296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958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583-0D05-4525-AC89-970FF5BE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337-19B1-497D-9535-92EF5F1A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BBD-50EF-4179-8FB2-E13699B5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5E7D-4808-4D51-B7D8-59411300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0CA6-0DEA-4AAA-9BEC-F9B7DF12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CB2-93B0-42F7-AE0D-09E088DF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C61-111A-42CD-8A2F-DD6197F7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99C-98AE-4B98-9861-D9649239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C2D-5F4E-4C48-B14B-66630610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EF5D-6904-4C97-8101-F7C4053B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CEB-CAD6-4045-94AC-BD17F183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46D-266F-4179-8908-4C4EBA51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C4F8D-5D1C-4F3C-A3C1-519D6088EA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