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5031"/>
        <c:axId val="55195684"/>
      </c:barChart>
      <c:catAx>
        <c:axId val="1985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95684"/>
        <c:crosses val="autoZero"/>
        <c:auto val="1"/>
        <c:lblAlgn val="ctr"/>
        <c:lblOffset val="100"/>
        <c:noMultiLvlLbl val="0"/>
      </c:catAx>
      <c:valAx>
        <c:axId val="55195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5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B57-6D02-4D94-A303-430C1E2B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109-FAB4-4D0C-8AA5-108D2678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D85-DCAD-4700-99BA-BEB17F2A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7F9-46AD-49B5-8432-3AC300E9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C0A-612D-4E47-99E8-BBCB1661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BFD-A4D1-4F2D-AB39-FA09C8B2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EA5-1945-4C59-AE03-32D492A2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2BA-5294-4ABA-B440-9567A954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145-F1BD-4EE2-811B-231980D0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1C7-EA55-4B22-B073-B1112919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F64-EDC5-4DC4-9865-B7E70FE0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227-C51F-4433-8AB6-6DCC21F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05E6A-501D-4BC1-8029-32B52E8AEE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