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97447"/>
        <c:axId val="29595460"/>
      </c:barChart>
      <c:catAx>
        <c:axId val="61197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5460"/>
        <c:crosses val="autoZero"/>
        <c:auto val="1"/>
        <c:lblAlgn val="ctr"/>
        <c:lblOffset val="100"/>
        <c:noMultiLvlLbl val="0"/>
      </c:catAx>
      <c:valAx>
        <c:axId val="29595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97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981-09DF-419D-95F6-2F0089D7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36A-2281-42DD-91EF-7EBDFC3E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9AB-DE1A-4987-B02D-4B03469B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748-9203-4757-BA9C-F0CF42FE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E1A-3776-4FF2-95A3-AF73982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460-F42C-4705-B93F-2692A431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3A3-3DA1-4619-949A-87E81D3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A66-1B32-4CE8-9998-1B21AF1F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005-EA32-4CB8-9BC8-522F8CF5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8F5-FA04-4CDE-9E55-A3723BB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395-D336-490D-9CC2-7B7738E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022-C2CA-4C43-A4CE-A3EA60C6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3D6B5-405F-4BB2-9292-C1D730AE2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