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67748"/>
        <c:axId val="75789023"/>
      </c:barChart>
      <c:catAx>
        <c:axId val="12467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89023"/>
        <c:crosses val="autoZero"/>
        <c:auto val="1"/>
        <c:lblAlgn val="ctr"/>
        <c:lblOffset val="100"/>
        <c:noMultiLvlLbl val="0"/>
      </c:catAx>
      <c:valAx>
        <c:axId val="75789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67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97A-CB44-4BF8-97CB-854847A9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175-F2AF-4BAA-A23D-98C1F5DF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D12-35AF-45F5-BF28-B31A46E4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642-3153-488E-AAB6-0986D968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ECD-CCD7-40E9-971E-8F31CAB3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B8B-FDC9-43FD-8E8E-DA347799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09F-D787-4002-855E-06E3CE66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061-9C5E-434B-9B3F-E7F8CBEC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DFB-926A-4DE7-990B-03DC90A2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0A3-1537-4862-AD4D-4F8E8C84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0B5-F09C-44AD-94E4-6DA189D5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22B-9CED-4B6D-8548-1FE87A7E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03801-2E40-453D-AA27-9F63A0C8C6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