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660876"/>
        <c:axId val="96070957"/>
      </c:barChart>
      <c:catAx>
        <c:axId val="706608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70957"/>
        <c:crosses val="autoZero"/>
        <c:auto val="1"/>
        <c:lblAlgn val="ctr"/>
        <c:lblOffset val="100"/>
        <c:noMultiLvlLbl val="0"/>
      </c:catAx>
      <c:valAx>
        <c:axId val="960709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608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A064-E9DE-4B32-8F1B-ADE0F527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19BF-C242-4334-B95F-4B7ACDB0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3F86-96BF-4195-9582-C0C0EE94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667C-4993-4685-AE49-F27CCF14F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4E82-55CA-4A58-88A0-F5820F74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EEFB-2CBA-46BD-B3A9-64062A5D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4280-6305-47FB-B8B8-99E03E92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54D0-2A91-4CB0-B6A0-BD91CDAA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D028-5C9A-4E0C-9D9E-A2D2C077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CE19-E4C4-4B37-B5C6-8CAA6185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2DAA-3381-4154-8640-71E5CB4C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C7A7-26A0-4D03-87FC-BD8E18D8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5B3E8-4A11-4169-818E-19895F114F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