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40414"/>
        <c:axId val="73169668"/>
      </c:barChart>
      <c:catAx>
        <c:axId val="37840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69668"/>
        <c:crosses val="autoZero"/>
        <c:auto val="1"/>
        <c:lblAlgn val="ctr"/>
        <c:lblOffset val="100"/>
        <c:noMultiLvlLbl val="0"/>
      </c:catAx>
      <c:valAx>
        <c:axId val="73169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40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262-D67C-4FDC-9618-50401F6F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671-6695-43F4-95E4-99D69DF6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618-7974-49D7-B9B9-84C4C3C2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874-365D-441F-B21B-D5EAC871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430-0551-4AD0-A0FA-CAD6E06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E4F-AF8D-4378-8E67-BECFD7D3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BA5-0D39-4A6A-80ED-222CDC16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8A1-E476-4435-BD46-9771028E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C44-9B81-4A6B-BFC6-AAB2EC64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AAA-47EB-47C7-9C29-A792672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E5C-FC96-417A-9A0E-F0D7879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91F-D04B-4525-A81F-13832A1A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F57B6-7D7E-4CA3-A7FD-D8BC7C5AB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