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12262"/>
        <c:axId val="16127800"/>
      </c:barChart>
      <c:catAx>
        <c:axId val="65312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27800"/>
        <c:crosses val="autoZero"/>
        <c:auto val="1"/>
        <c:lblAlgn val="ctr"/>
        <c:lblOffset val="100"/>
        <c:noMultiLvlLbl val="0"/>
      </c:catAx>
      <c:valAx>
        <c:axId val="16127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12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031-BAD6-4AF6-99C5-9FA5EFEE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95E-D516-4282-9C5D-B548346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5C3-BCDC-4837-8877-CA3090A5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2FD-38CB-4A90-A608-27938B1C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5D9-F9CF-4542-B81D-C49AE455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D29-0E7A-4325-93C3-524552F0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070-5EA2-4360-854A-4FD8C221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9AC-8E82-4B22-9880-F89BFA50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12C-6DEF-41BF-AD80-2E22DF2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652-3679-41E4-911D-6B9ED107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391-5B58-40F9-BBA1-13174224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0D3-38B0-43C8-AE2E-6A97CFB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D2040-0198-43CC-9A60-4924D76DA3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