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1614"/>
        <c:axId val="12066439"/>
      </c:barChart>
      <c:catAx>
        <c:axId val="9631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6439"/>
        <c:crosses val="autoZero"/>
        <c:auto val="1"/>
        <c:lblAlgn val="ctr"/>
        <c:lblOffset val="100"/>
        <c:noMultiLvlLbl val="0"/>
      </c:catAx>
      <c:valAx>
        <c:axId val="12066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C4C-9E97-4B1A-ACE7-935F8CC9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8BE-B9CC-4A33-8DDA-B25D636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427-B4E5-421A-98B1-DFF33E07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AD3-9928-4C93-B269-D65B60B6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CB8-81D0-445E-B316-FD8683C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A55-7525-4C26-B930-89BF6CF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D63-138C-4733-A9EB-E1140D3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15C-3FEF-4AB7-9B7E-5729E89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533-31C4-4A50-A8EF-7A7EFA98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F8F-31C3-434E-8910-05ADC02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6E9-8673-4546-BE19-05B952C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2CC-B5FD-4C40-A3CA-AAA2CE51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27CC5-0DBB-4AB9-80F4-CE7EC588B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