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370747"/>
        <c:axId val="39618117"/>
      </c:barChart>
      <c:catAx>
        <c:axId val="513707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18117"/>
        <c:crosses val="autoZero"/>
        <c:auto val="1"/>
        <c:lblAlgn val="ctr"/>
        <c:lblOffset val="100"/>
        <c:noMultiLvlLbl val="0"/>
      </c:catAx>
      <c:valAx>
        <c:axId val="396181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3707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F7DC-F328-4057-95F5-36FC1E3D4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4F3D-0547-46CF-B0C1-52322ADF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47BF-5B88-4201-B7E9-25F2D43FC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B90F-69E6-4168-BBC0-E4852BA66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BABE-3239-41D6-B0BC-D2F62783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C845-D793-4B88-A9DE-02177F88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D2FE-F8A7-4144-BEE6-6EB77FBA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1E6A-0A7B-4EA8-BC9D-EF1B9AC9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F077-FFE2-4D30-A5B8-1716047D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0B9B-999E-45D6-B2D4-56D4936E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CCA9-8BBB-475A-9B6E-E38E1D53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A50E-D423-4486-A189-A17C5F37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0BA86D-2615-4E15-B64B-499AEB9897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