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31629"/>
        <c:axId val="6742445"/>
      </c:barChart>
      <c:catAx>
        <c:axId val="59731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2445"/>
        <c:crosses val="autoZero"/>
        <c:auto val="1"/>
        <c:lblAlgn val="ctr"/>
        <c:lblOffset val="100"/>
        <c:noMultiLvlLbl val="0"/>
      </c:catAx>
      <c:valAx>
        <c:axId val="6742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31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212-5FA0-408D-8995-81FE2E80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272-9A97-48A8-804D-818E318E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2EF-03E6-48F6-BD7F-0D5EE390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58D-162F-4DF2-897A-D694444D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28C-3B0D-4615-BC79-CA54B8D6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AD8-1DCD-4ECF-95A8-358F828E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2E4-43A1-4256-9577-F3A2DD56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169-0328-4C0B-AFA7-EC35DE82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4CA-7182-4D46-B97F-82B85106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6FC-5617-4448-B9EB-EB66971C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779-1532-448F-A767-864047E6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A1B-58B5-4392-B7F2-23D1D236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06109-6505-40D3-9C36-09FC41CB72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