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4831423"/>
        <c:axId val="85063109"/>
      </c:barChart>
      <c:catAx>
        <c:axId val="848314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063109"/>
        <c:crosses val="autoZero"/>
        <c:auto val="1"/>
        <c:lblAlgn val="ctr"/>
        <c:lblOffset val="100"/>
        <c:noMultiLvlLbl val="0"/>
      </c:catAx>
      <c:valAx>
        <c:axId val="850631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8314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EC8C-B7A4-4472-9BA4-594E8E111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095F-F09B-4BDB-8CCB-936C860C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03D8-2D75-4E14-8F56-727472800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1B98-FBF8-4FC7-80C7-4090FA96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587E-69A5-48F9-838D-44B82C6F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1EDD-084C-4CB2-8D03-890776EA5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B998-DF72-47F4-84D2-F334E18D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B2F1-1162-4C21-8F88-8834825F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DCAB-3DE7-43CE-9706-94D14E861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6C27-88F6-43A2-967E-0CD6D46D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517B3-FA82-40D2-8A7A-373B08D2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A5FE4-8746-4A5C-A76B-8C829D2E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A02C65-33D6-433C-8150-6C91586C91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