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413893"/>
        <c:axId val="35349729"/>
      </c:barChart>
      <c:catAx>
        <c:axId val="374138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349729"/>
        <c:crosses val="autoZero"/>
        <c:auto val="1"/>
        <c:lblAlgn val="ctr"/>
        <c:lblOffset val="100"/>
        <c:noMultiLvlLbl val="0"/>
      </c:catAx>
      <c:valAx>
        <c:axId val="353497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4138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017D-B5EE-4423-8F5F-6164B94CC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89F6-58FF-409E-97C5-720C6B77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3962-951A-4D36-892C-398ACDF7E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60F5-7704-467C-8F78-70D8DC78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990-E7A0-4341-90FC-0B4CF365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97A9-99F5-42AB-B8C2-3F6220DF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241B-D9D0-4C18-ACA9-CE477B80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5E7A-4E8D-4423-BD65-F13632EC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DD5-4CD5-46A1-9F19-02F2C5FD9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9F4D-FE15-4358-AEDE-26871DCC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9DEC-7776-4822-B624-CD40B879F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F2C7-3A7F-447D-BD34-9B96ECFEF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A4F0B-DE3A-45C0-A6C8-46CACD4106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