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00533"/>
        <c:axId val="43003239"/>
      </c:barChart>
      <c:catAx>
        <c:axId val="57500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03239"/>
        <c:crosses val="autoZero"/>
        <c:auto val="1"/>
        <c:lblAlgn val="ctr"/>
        <c:lblOffset val="100"/>
        <c:noMultiLvlLbl val="0"/>
      </c:catAx>
      <c:valAx>
        <c:axId val="43003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00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EB4-3D32-4E01-9B7A-F482F473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B18-49D4-4066-8348-3EA171DA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52E-EF29-4039-868E-4F247197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9A4-B39D-4AB2-94C5-973FCA2F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1B1-5915-41A9-AECC-2CFAA44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E6B-CBED-4A01-82B1-1CF7390E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059-E624-4D4D-A923-B759038C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5BB-713E-4B9C-9C95-8FFDD7B6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EE5-F6C2-43BA-BF1C-CABA3DB5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F56-ABD9-4B69-82E4-0AEBA1EE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370-9866-4573-A8CC-A871C47C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BE8-5693-4169-ACAE-0261455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E87B6-9AB8-4B84-81BB-214391B5CC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