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05879"/>
        <c:axId val="20140141"/>
      </c:barChart>
      <c:catAx>
        <c:axId val="58905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40141"/>
        <c:crosses val="autoZero"/>
        <c:auto val="1"/>
        <c:lblAlgn val="ctr"/>
        <c:lblOffset val="100"/>
        <c:noMultiLvlLbl val="0"/>
      </c:catAx>
      <c:valAx>
        <c:axId val="20140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5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286-9315-4CEA-904D-209D1379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CAD-CF17-438E-8148-CE62350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704-0E13-4DD0-A753-9810EF18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794-7FEB-42AD-8FE3-19590C88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383-61ED-4494-A5BB-3ABDF360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1F1-1711-4140-9C48-4459104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D86-3C25-42F8-AD41-F9C6A2C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A30-B6B3-464C-8D5F-E7856AE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A70-84E8-48D5-B94E-E812D44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FF7-A4CA-4FA2-95F1-97BE484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B99-333D-48C6-8AFF-0F689BB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37E-AB66-4AF6-8C72-47D0551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A410E-3318-402E-9C32-788D71A047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