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82024"/>
        <c:axId val="28761818"/>
      </c:barChart>
      <c:catAx>
        <c:axId val="32582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61818"/>
        <c:crosses val="autoZero"/>
        <c:auto val="1"/>
        <c:lblAlgn val="ctr"/>
        <c:lblOffset val="100"/>
        <c:noMultiLvlLbl val="0"/>
      </c:catAx>
      <c:valAx>
        <c:axId val="28761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82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B65-1F19-4637-BB3B-5191E635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C46-BE81-4DA5-8C4B-6066CBAB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5532-3C54-4F98-9BBD-6F130F03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8B0-7BBA-4E91-9B10-DA6B5BE5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CA5-19DF-455F-AD42-97A3380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218-5023-4D7B-8F0E-186B2AD4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B19-5712-41C9-B46E-931843E7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83D-BAB6-443D-80DB-40A4F1FF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FDC-B8F6-48BE-A0E6-486686C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DD8-2A5E-4457-BBF0-8C39E4B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EBD-4B39-4FBD-A40E-4A5B331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68C-3757-4F99-8792-DDFCAFDD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E2676-0250-4693-B736-F2AFA9A43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