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16514"/>
        <c:axId val="22196941"/>
      </c:barChart>
      <c:catAx>
        <c:axId val="98416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6941"/>
        <c:crosses val="autoZero"/>
        <c:auto val="1"/>
        <c:lblAlgn val="ctr"/>
        <c:lblOffset val="100"/>
        <c:noMultiLvlLbl val="0"/>
      </c:catAx>
      <c:valAx>
        <c:axId val="221969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16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6230-477E-4C2A-A011-8816B61D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53D-FC72-4923-8239-1921C49F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0FC-C9EF-4B7F-B602-0CAC4224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0816-F81D-4D92-830D-36AD3F7C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97B-901A-42AE-90D0-8269CB1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84E-2FFB-43AB-A1BC-1FCAB02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95D-5B2F-477A-9443-85FDC773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5F7-92B4-489B-882A-36F8C68C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0CC-E71E-4254-BFDE-79553D9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471-02B1-48B5-8DD1-6238A0F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E24-1233-49AF-8272-EE427C7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12E3-0947-4F2D-9469-895659C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92DE-CD3B-4480-9493-A6A594293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