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961183"/>
        <c:axId val="90878518"/>
      </c:barChart>
      <c:catAx>
        <c:axId val="75961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878518"/>
        <c:crosses val="autoZero"/>
        <c:auto val="1"/>
        <c:lblAlgn val="ctr"/>
        <c:lblOffset val="100"/>
        <c:noMultiLvlLbl val="0"/>
      </c:catAx>
      <c:valAx>
        <c:axId val="908785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961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0FC-01EC-4771-ABF8-3BA8A8BD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82F5-0B34-498D-A0D3-4FA1E5C5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7ADC-70A0-46BB-9805-2D9374089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A77C-1492-4BA8-A242-BE9054D14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F57C-3CA2-4B08-AD27-11BFA6180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EF29-0A61-47D3-BACD-F1FF97A7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086F-3ED4-4507-A477-61FC7A41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8D55-6016-4B97-B7E1-D31F5ADD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1A66-23F9-4538-95F5-0C93CEF3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EE53-AEBD-42FD-97AB-6B31308A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3D5-0BC7-405B-A110-7D72B76D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8D3-429F-4F10-8465-6E5DB0AC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48E90-CFFF-4903-B090-2F9FE049F9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