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570363"/>
        <c:axId val="99567406"/>
      </c:barChart>
      <c:catAx>
        <c:axId val="595703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567406"/>
        <c:crosses val="autoZero"/>
        <c:auto val="1"/>
        <c:lblAlgn val="ctr"/>
        <c:lblOffset val="100"/>
        <c:noMultiLvlLbl val="0"/>
      </c:catAx>
      <c:valAx>
        <c:axId val="995674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5703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7F16-075A-4557-BF3F-0BC491C14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8B33-18F8-4947-8BEE-48A0E057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D9F2-8C15-484E-9F52-60DA506E9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FA00-5F98-458E-A9B7-868E26745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388F-B8D4-4F8A-BF8C-D13E0658A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35C2-ADC5-4735-8BE3-CE6C6B79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8CC8-9BCE-4B37-9DC5-5C5A6E45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2507-BA91-4247-B399-9BE108C2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9681-FBAD-4B46-A634-3069086C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B6E4-B173-4265-8901-AFE46BD9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C71A-9BAC-42DE-A9EF-B040788E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9FB8-2FFD-4887-A588-BA1A99B23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6CBCDD-E11B-4A71-B7B1-3BC37F1F12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