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34321"/>
        <c:axId val="80342045"/>
      </c:barChart>
      <c:catAx>
        <c:axId val="63834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42045"/>
        <c:crosses val="autoZero"/>
        <c:auto val="1"/>
        <c:lblAlgn val="ctr"/>
        <c:lblOffset val="100"/>
        <c:noMultiLvlLbl val="0"/>
      </c:catAx>
      <c:valAx>
        <c:axId val="80342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34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BCD-9355-46FE-AF8F-9F047678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C80-7650-4933-A1C7-65760137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FF6-DA84-4297-9715-AFA23952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6CB-FCC4-4F30-B3E9-CCD6D7FB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BB6-365A-40BA-A134-4B6D738E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D4A-7849-4612-91DA-9AC9617D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F80-7B70-446C-B8C1-4256168D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0DF-B6BC-4465-B3A6-5B9C05D3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2C6-50AB-4A55-9B32-107190BF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409-80F7-4D13-A77E-3AAF5D4A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E87-6833-4B64-9333-7AE506EC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675-8B5D-4D1F-952A-792395B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C58D3-BCB9-4394-AC72-10D50D68E1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