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17365"/>
        <c:axId val="31891152"/>
      </c:barChart>
      <c:catAx>
        <c:axId val="99317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91152"/>
        <c:crosses val="autoZero"/>
        <c:auto val="1"/>
        <c:lblAlgn val="ctr"/>
        <c:lblOffset val="100"/>
        <c:noMultiLvlLbl val="0"/>
      </c:catAx>
      <c:valAx>
        <c:axId val="31891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17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FD5-2750-4323-8F07-DE6AF7C5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8DC-EE1E-405C-BC15-1170DCA8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87C-0432-4FAA-ABC2-81D1A4AA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186-4896-421B-8A04-AE321FC4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25F-FE34-4FE8-B21C-CF9E9E34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849-2997-4D7D-B40A-F53026D0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95C-CEBF-45C6-9865-74B8A2F9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7AC-6865-4CCF-8B03-D339DAFC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F8B-1A0A-4097-A149-37DAB086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AE2-F8F7-4D35-8277-AE2F1B49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534-2855-484C-A97B-E67F7DA8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575-0FD4-4AA4-902D-63F926D3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F35AC-B8E8-4BE8-AE29-498C03CC18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