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22230"/>
        <c:axId val="78793670"/>
      </c:barChart>
      <c:catAx>
        <c:axId val="31222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793670"/>
        <c:crosses val="autoZero"/>
        <c:auto val="1"/>
        <c:lblAlgn val="ctr"/>
        <c:lblOffset val="100"/>
        <c:noMultiLvlLbl val="0"/>
      </c:catAx>
      <c:valAx>
        <c:axId val="787936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222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6E60-34FA-460C-A252-B8ED916F3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241C-3AD3-4B14-BB17-F8D6575E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EF61-D983-4D0A-8440-271D55115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7AEF-9DF2-4583-8981-CA48DE132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070E-E464-4E56-B13D-F234814C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0A95-D336-469B-BCCC-3D28BBC1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29C3-FD27-4456-AB83-C7EC3D36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F95F-C267-4F74-A2BF-E93D73CB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46DD-F3C1-4384-B6AE-40A30302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F964-2D90-4590-BEA1-52B88A48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7AF6-4E47-483B-9EE6-41D83EC9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F9E0-2A9C-4C35-926A-1526FBCE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276994-FA36-4127-8D3A-40B91B3B61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