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83873"/>
        <c:axId val="20080256"/>
      </c:barChart>
      <c:catAx>
        <c:axId val="34983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80256"/>
        <c:crosses val="autoZero"/>
        <c:auto val="1"/>
        <c:lblAlgn val="ctr"/>
        <c:lblOffset val="100"/>
        <c:noMultiLvlLbl val="0"/>
      </c:catAx>
      <c:valAx>
        <c:axId val="20080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83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3F26-416D-4B65-A331-841D6BD1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E49-6650-4AB2-A97F-B77BA8B1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5E0-6441-48BB-A5DB-C321FD69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DDE-17CD-4E30-A3E6-25CACD93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193-6CF6-4690-96FA-8DFD178C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1F7-FF86-4FAC-B7D5-68FFFD01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930-70DB-42F7-B756-7B9F16F3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DE06-57D9-4696-8A4D-6C8CDAB0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D4D-9CC5-4747-954D-4ADA1E0A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FCD-9BFC-4CBE-B652-F1957F20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1B5-67D9-413E-952E-632EC719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505-D410-4802-844D-DD792599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E113A-34A9-459A-BB15-AC32944E02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