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77821"/>
        <c:axId val="75014086"/>
      </c:barChart>
      <c:catAx>
        <c:axId val="38977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4086"/>
        <c:crosses val="autoZero"/>
        <c:auto val="1"/>
        <c:lblAlgn val="ctr"/>
        <c:lblOffset val="100"/>
        <c:noMultiLvlLbl val="0"/>
      </c:catAx>
      <c:valAx>
        <c:axId val="75014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77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EAA-1D76-4550-948F-1CEC80A6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E3D-0999-4848-BBB4-664129EC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BD6-AA21-43EE-8667-2EF0CC0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CA30-ED25-40E5-AFB9-E614242F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FC9-A6F3-4452-B113-DEFDA6F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403-ADB4-47F0-AED3-10EC82E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EF2-D246-4C9D-BBED-11E55C8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F00C-922E-4202-9844-34C1877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837-C928-45B1-A372-E31EC9E3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B22-DE56-408C-89E1-2CF3C1E4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41A-18D1-4299-9E85-314A83BC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FAB-3FE5-4811-9DCC-691233DA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26F2-74E5-4537-8AE4-C4B5526BF8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