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82611"/>
        <c:axId val="40950813"/>
      </c:barChart>
      <c:catAx>
        <c:axId val="67782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50813"/>
        <c:crosses val="autoZero"/>
        <c:auto val="1"/>
        <c:lblAlgn val="ctr"/>
        <c:lblOffset val="100"/>
        <c:noMultiLvlLbl val="0"/>
      </c:catAx>
      <c:valAx>
        <c:axId val="40950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82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66-C1F9-4C3E-A670-8B31170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AD3-9896-48E2-A1D3-A1244465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AA6-DB89-4E85-9131-EED36BB5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276-EA0D-4967-A7B5-202654C8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2B2-F922-482D-A620-E4021CDC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E75-7551-4EE2-A6A6-FACC45F7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944-5F81-402A-8E7B-D4F0C82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D58-C688-4D3A-AC8A-CAE81AA3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340-60C3-484E-98AA-D441E0D3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17C-4B8A-4FFC-89D4-D184DE2B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AEC-C452-4847-9221-A17706E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081-583E-4E01-867E-E40B1E93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C3E84-4DCC-4096-AF89-BB43F80219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