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984656"/>
        <c:axId val="16348610"/>
      </c:barChart>
      <c:catAx>
        <c:axId val="98984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48610"/>
        <c:crosses val="autoZero"/>
        <c:auto val="1"/>
        <c:lblAlgn val="ctr"/>
        <c:lblOffset val="100"/>
        <c:noMultiLvlLbl val="0"/>
      </c:catAx>
      <c:valAx>
        <c:axId val="163486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84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2A9-3010-49E0-9920-3D41B365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7C2D-6B3B-45BA-89A7-8CC32E72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1A04-B3F4-4044-ACEA-EF265FA9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F62C-3A60-4DCF-A2AF-3CCA39DB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489-138A-487C-B582-D3A2F479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3E55-F699-492B-8031-843C2565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BB9-D3B8-4066-97DC-CFAFFAF1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859-4CD7-4011-85D5-7EF80C9C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1C0-D517-4B68-B4CB-BBA5728A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FBAA-E96B-4849-9791-E43E3D2F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B84-EF3D-401C-BF55-2CD045D0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7E0D-BCD2-4B90-AF90-A77876D6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DF769-F33F-405C-8009-A0D72CC446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