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08720"/>
        <c:axId val="23055116"/>
      </c:barChart>
      <c:catAx>
        <c:axId val="40808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5116"/>
        <c:crosses val="autoZero"/>
        <c:auto val="1"/>
        <c:lblAlgn val="ctr"/>
        <c:lblOffset val="100"/>
        <c:noMultiLvlLbl val="0"/>
      </c:catAx>
      <c:valAx>
        <c:axId val="23055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08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B9B-B149-41AE-91A9-EC231A94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A4A-AE1D-4EF8-97A0-82965A8B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316-2326-4240-9DC1-76F9BFF9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AB8-A8F4-4AFF-8F58-0D59EB20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EAE-FF15-4DA3-A937-E99895A4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752-716A-4228-9637-A75984B3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F92-3BF4-4986-9684-60E154DB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73A-D715-431C-8E69-752CD42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77A-D9F2-441A-8A23-53CE86D0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B0E-6504-4211-8F0A-2208378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93B-56C8-41BE-A9EA-02108395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14D-9269-47C2-8C56-93F07ED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37443-2B97-4A1A-8295-50A609C74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